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EAC-F23C-420C-BA82-82F03271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809-1A6F-4C25-8025-6958E06F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F8F8-E23E-49EF-8C03-4EC8B90B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897-1332-4BFC-AFAC-2B550435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EFE-3D1D-4E09-AE2A-61000F05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1C9-EEF3-4D34-95F1-A77D8925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64C8-C6A3-403E-B747-9E8F68A3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2355-29E7-41DC-9995-6B1E8661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78E6-261D-4900-8310-24349DFE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A118-A147-4174-AB57-438CDE36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5437-7921-4422-97A4-EE607A2F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C953-8C70-4F12-B67A-2B5EA854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C4BA-54B8-46EB-BF5A-C9994D917185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23880" y="2057400"/>
            <a:ext cx="6096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BAŞL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sim 2" descr="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sim 1" descr=""/>
          <p:cNvPicPr/>
          <p:nvPr/>
        </p:nvPicPr>
        <p:blipFill>
          <a:blip r:embed="rId1"/>
          <a:stretch/>
        </p:blipFill>
        <p:spPr>
          <a:xfrm>
            <a:off x="-38160" y="-152280"/>
            <a:ext cx="9220320" cy="7010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05:54:15Z</dcterms:created>
  <dc:creator>part-time</dc:creator>
  <dc:description/>
  <dc:language>en-US</dc:language>
  <cp:lastModifiedBy>AKADEMİSYEN</cp:lastModifiedBy>
  <dcterms:modified xsi:type="dcterms:W3CDTF">2023-03-16T13:04:1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